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2D6-513D-40F2-8AC4-BA8AC36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0BD-A533-4767-AA75-057CCD92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93C-95CC-4E68-85F8-4D1EBAFD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0C5-33A1-4F87-B00A-3520F80D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C9B-4541-4AD5-AD80-136F114E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1EF-93CE-40E0-A657-D6E225D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FB5-6233-4461-8DA0-B2DB4A47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FC49-D4F1-4268-A5DE-36339CE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CD6-09EA-49CA-9482-03732DA1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14B-5D85-455A-9F9B-E9195F5A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F23-12B3-415B-83D3-2999766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F09-BA7D-4B35-A172-05EB4C6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39FE-773A-45F0-9B5D-A46E3B88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reciation of Fixed As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tatemen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s and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airs and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rs and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st of restoring an asset’s potential after breakdowns or dam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ntena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routine cost to keep the asset in normal cond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expensed in the income stat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s (or capital expendi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make an asset perform better than before or will increase the asset’s life or may reduce operating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capitalized and they will increase the book value of the asset in the balance 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5:50:41Z</dcterms:created>
  <dc:creator>ME</dc:creator>
  <dc:description/>
  <dc:language>en-US</dc:language>
  <cp:lastModifiedBy>ME</cp:lastModifiedBy>
  <dcterms:modified xsi:type="dcterms:W3CDTF">2004-09-04T14:04:16Z</dcterms:modified>
  <cp:revision>2</cp:revision>
  <dc:subject/>
  <dc:title>Depreciation of Fixed Assets</dc:title>
</cp:coreProperties>
</file>